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FD0-AA2B-40A1-BD7D-AF73967E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DDF-7BA0-4967-ADDB-A6F8110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FE3-BF52-4AE9-9D65-8160B830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C46-7688-4C17-8286-F4600049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F08-638F-429E-B4C7-8DA1EA64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F2BE-3F69-414E-B88B-DF12966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7721-5C4B-4C33-A494-DDB10A2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9E3-B9E3-4D63-B8BD-B76E724F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BBA-747F-4F7E-9DFA-E90AC98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113F-E632-4DF9-B8DE-51810D7D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545-270B-4EB0-BDF2-08A54E1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269-BF67-4A1B-837A-01233382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CEB2-3FB9-4880-98DD-2BFDC61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E03E-8789-4715-BDB9-1A45538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3DE-6277-43D5-9D71-652F6F0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2D0-0D38-440A-84CF-C87006F5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1F87-FD9C-4BCF-B399-240165E9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908-53A7-4AA2-B82C-EB4B30B3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A2E-6EE4-48C1-8039-B6910471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C2F-2059-4C1F-9994-55C26193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5B4-D92C-4038-AFF0-FA8C336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2A9-FD68-4BD3-A974-14F13BD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EB1-4A45-44AE-9371-CE4AB1D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665-C643-46A7-BCB6-89FF7E9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0E9-BF7C-4409-A5DA-26D75DDED1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5113-0891-424F-A14A-325585D3B5D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jts most el a szárnyad alá,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Erős kézzel takarj be engem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Tenger tombol, zúg, süvít a szél,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Te emelsz fel a vihar fölé.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Uralkodsz hullámok habjain,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Szívem nem fél, Benned remél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Csak Istenben bízz én lelkem,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Mert Ő él, nagyobb mindennél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37:25Z</dcterms:created>
  <dc:creator>LG</dc:creator>
  <dc:description/>
  <dc:language>en-US</dc:language>
  <cp:lastModifiedBy>Balázs</cp:lastModifiedBy>
  <dcterms:modified xsi:type="dcterms:W3CDTF">2008-01-25T10:45:10Z</dcterms:modified>
  <cp:revision>2</cp:revision>
  <dc:subject/>
  <dc:title>Rejts most el</dc:title>
</cp:coreProperties>
</file>